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62464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51160" y="528120"/>
            <a:ext cx="3424320" cy="256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62464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81F3-9338-4650-AA29-EDB04B07EAC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E851-3AE4-4D7A-B88A-AA651832C94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F805-6266-4F43-9DCF-37CBBB3EBBD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2E16-26C1-4393-8095-8B2265E83D0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2122-49E2-4019-AC0D-AA8DFBA1C8D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8ECF-923D-45EE-9A24-FE78AE3C80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E310-FAB2-48EB-AFF2-A42A360083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E23-2764-4C2C-A18E-FE0ADBE8833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83AF-55D9-404B-BE46-69B5C72EC5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3847-62EA-4D9E-A902-D34440F2C6B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18A7-79A5-4545-8467-194FA964120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4EEB-B190-4F96-91B4-477C0CB7AF9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7928-7BE6-4F29-8326-94B711682F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D399-3675-4287-B5BB-18EC09DD2F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5390-DC71-44AA-904D-42CD9AEFD39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8E92-7993-4FAF-B41D-C629F0234E6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AFD0-3D99-443F-9C36-DD073A82DF7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73B6-62F4-4D8E-B843-B22D38DA19B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2851-0F4E-4471-A866-F4D7855C0D5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83D3-A88C-4441-9E70-2CE332B64C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imes New Roman"/>
              </a:rPr>
              <a:t>Claudio V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7093080" y="64008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16000" y="189000"/>
            <a:ext cx="58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8001000" y="228600"/>
            <a:ext cx="892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Slide </a:t>
            </a:r>
            <a:fld id="{68848FA7-E0F6-4C57-851D-BE05E04604BE}" type="slidenum"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La costruzione delle reti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0099"/>
                </a:solidFill>
                <a:latin typeface="Times New Roman"/>
              </a:rPr>
              <a:t>il concetto di partenariato e le implicazioni operative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798840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deve avere una composizione articolata, che comprenda soggetti rappresentativi di diversi contesti istituzionali e portatori di interessi diversific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Alcuni aspetti import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gli obiettivi  general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attese rispetto al lavoro di ciascun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motivi che hanno indotto ciascun partner a partecipare all’iniz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obiettivi che i partner intendono raggiungere e i risultati da loro auspi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strumenti e le competenze che i partner possiedono per raggiungere gl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problematiche legate all’adesione dei singol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Il fattore cultu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Un ulteriore elemento da non sottovalutare sono gli aspetti culturali e caratteriali del partner, che se non ponderati rischiano di mettere in crisi un partenariato. A ciò di aggiunga la condivisione di una comune lingua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4"/>
          <p:cNvSpPr/>
          <p:nvPr/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ade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31128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derire ad un gruppo già costit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7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È una scelta che nasce dal desiderio di aderire ad una iniziativa considerata interessante quando non si possiede un’esperienza sufficiente per porsi alla guida di una partnership o quando non si possiede il tempo sufficiente per intessere le relazioni necessarie alla costituzione di un proprio parten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cre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1683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Creare un   nuovo gruppo    di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È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una scelta che nasce dal desiderio di realizzare un’iniziativa innovativa in cui si crede in modo particolare, presuppone una certa esperienza pregressa e richiede un grosso impegno nella fase di progettazione e </a:t>
            </a:r>
            <a:r>
              <a:rPr b="0" i="1" lang="it-IT" sz="2800" spc="-1" strike="noStrike">
                <a:solidFill>
                  <a:srgbClr val="000099"/>
                </a:solidFill>
                <a:latin typeface="Times New Roman"/>
              </a:rPr>
              <a:t>team building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Struttura del partenariato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48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s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no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d h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Interre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1. Rete a stella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rete di nuova costitu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partner leader con una maggiore esperienz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passano per il leader che stabilisce le procedure operative, organizza la banca dati centralizzata, assegna i compiti ai singoli partner, risolve eventuali conflitti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2. Rete a nodi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rocesso di socializzazione tra partner è  piuttosto avanz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partner hanno un ruolo paritario, uguale esperienza e medesim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leader rappresen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municazione circola in modo inf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3. Rete ad hoc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rete è già matura ed i partner vantano rapporti consoli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non si evidenzia una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fra partner sono dir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4. Interrete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odello di rete compl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cooperazione intensiva fra diversi part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upporto di una struttura di coordinamento, punto di riferimento che garantisce la fluidità del flusso di informazioni fra i var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ogni partner è responsabile della propria 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Perché fare rete?</a:t>
            </a:r>
            <a:r>
              <a:rPr b="1" lang="it-IT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Promuovere la cooperazioni fra organizzazioni che lavorano sugli stessi problemi ma che sono diverse per tipologia, rilevanza, esperienza e nazionalità consente di ottenere risultati con un valore aggiunto magg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si intende per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Una rete di partner la cui specificità risiede nelle connessioni tra i vari nodi e non nei nodi st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artenariato non si qualifica per i suoi componenti ma per le connessioni che tra questi si possono cr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918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Obiettiv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Realizzare il progetto non attraverso un semplice trasferimento o scambio di informazioni, ma realizzando in comune prodotti o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sultati della 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i caratterizzano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l lavoro tra realtà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eterogeneità dei gruppi operativi che li hanno realizz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ampio riconoscimento dei criteri di utilità ed efficacia utilizzati per la re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imp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Il partenariato transnazionale comporta un accordo tra soggetti diversi appartenenti ad aree geografiche differenti, finalizzato a raggiungere obiettivi di interesse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me si costituis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Ogni partner porta con sé e mette a disposizione dell’iniziativa le proprie risorse, le competenze e le esperi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aratteristiche del partenariato 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nei Programmi comunit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52563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532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Transnazion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2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Transnazionalità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riunisce persone e/o organismi provenienti da realtà geografiche differ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9:09:52Z</dcterms:created>
  <dc:creator>Trani</dc:creator>
  <dc:description/>
  <dc:language>en-US</dc:language>
  <cp:lastModifiedBy>vitali</cp:lastModifiedBy>
  <dcterms:modified xsi:type="dcterms:W3CDTF">2008-09-01T07:01:03Z</dcterms:modified>
  <cp:revision>131</cp:revision>
  <dc:subject/>
  <dc:title>Struttura Piano di monitoraggio</dc:title>
</cp:coreProperties>
</file>